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549813"/>
        <c:axId val="6721823"/>
      </c:barChart>
      <c:catAx>
        <c:axId val="285498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21823"/>
        <c:crosses val="autoZero"/>
        <c:auto val="1"/>
        <c:lblAlgn val="ctr"/>
        <c:lblOffset val="100"/>
        <c:noMultiLvlLbl val="0"/>
      </c:catAx>
      <c:valAx>
        <c:axId val="67218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5498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1C8C-F853-44E3-A3C2-81D78F8F5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AE8D-F56C-45E7-ACAA-1F7B7B05E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A35D-7D03-43EA-856F-69F7E9ACD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086A-E0E1-4E76-BC87-ADD54A918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5868-3A5A-4630-879E-DB8E3BD77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4C98-197D-4B4F-82F6-9BF82A4F4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20A3-AD74-4A40-8F19-B091115EE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7C58-6BE6-43B5-AC20-6102982AF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C345-5C5F-4C99-8C03-A0423F37F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2E0A-7993-4660-ADB0-E0425587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1906-D9CA-4029-BDD7-2973258E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FCE2-7AED-40E9-AF15-FDB4C479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A2378D-CC20-4FC8-8322-2E4EF7A29C5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