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58171"/>
        <c:axId val="42073744"/>
      </c:barChart>
      <c:catAx>
        <c:axId val="50658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73744"/>
        <c:crosses val="autoZero"/>
        <c:auto val="1"/>
        <c:lblAlgn val="ctr"/>
        <c:lblOffset val="100"/>
        <c:noMultiLvlLbl val="0"/>
      </c:catAx>
      <c:valAx>
        <c:axId val="42073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58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B7A-629C-4490-8C89-3907A1E1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8A0-2FBD-48C9-837F-01EF60E9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2E7-C5C6-4386-A76F-F6EA6AA3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9AA-ACD5-43A1-8E34-81829C54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3F3-034A-4380-A890-8BB3748D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096-7A34-4E3E-A33F-7720A18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46E-86B8-42FB-A164-1949C67F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FE2-0CB7-4D60-A427-69ECCAB1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069-002C-40EB-A291-AFC88DAA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BD8-B5A6-449D-88D5-921D3BCD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06F-25D5-466B-88BB-3822E3C6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231-0D4D-480A-8F70-C79100A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05E31-34ED-4747-8220-9E2A5AE28C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